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applause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575D-16BE-4811-A029-8DC51494A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1832-4958-4CCA-8929-20CBA168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602C-C05C-4388-8520-F1647894D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6916-04BA-43EA-A2DB-175AE2F3A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195B-34D1-44AA-A7DE-FF962D226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4E33-3B9F-41E5-A93E-DD335EA5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6283-3BDF-4EF1-8417-225E7F72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62AA-8FA0-41CD-8F92-CBA618DD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5E05-2913-4510-B389-B929FDD5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E3A4A-4831-434D-BDED-883C5851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C131-C06E-48E8-88F9-22C21EA5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537D-CD22-4909-9E3C-B9019455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465A-6BED-4B90-BDA7-FB7C9DD3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D621-EA3C-4204-B558-5216C49E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13B7-A1FC-466E-9B85-CAFC48C7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8CE5-892E-4545-AD1B-5100328AE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1D73-3A9F-43DB-835A-642B0409E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A55B1-4B49-4E60-9AAC-DC11CC6FD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48F25-515E-4B72-B55C-9FFFA56B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27878-1910-46CD-8A5A-FF386061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CB135-A59E-4D6C-95C1-BF4BE8AB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DF680-C411-41AC-AF87-BF911C91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BD92-00E9-42FB-9FB2-7E18AFAB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3A4CF-F180-4E1B-B7AB-C840CC81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2080C-3D75-4E70-96AC-4186D3A4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205E2-E762-42FF-A51D-562892FB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EF49D-20B0-4A1A-9692-7A6CC8CE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97FDE-B720-4637-8112-5E2EAF9F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6FAA2-C719-4122-A5FD-342783A9A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26B8D-B348-4197-AE87-33B3643E9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89B32-44BE-4390-B521-68B710E4E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AB010-3280-4E0D-81F5-16B5C60B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561CC-9659-4B4F-8E0F-0A1D1DC2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0B01-9875-42D1-B217-12A0C8B7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99F91-BEB7-43C3-8008-DC42B1C1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94AAA-800F-41C5-B74A-862E4938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77577-B261-4086-97CD-558F8CA6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F4D9C-D365-438C-909F-8E62AAE0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D85C4-4CF0-4CD1-AB70-BF61358F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634A0-6F63-4A60-81C8-5FE35B47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A76B5-F5B4-4EC7-97E0-6561CB44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327BA-ACDB-4A59-8E0C-C9E01A138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4B516-8BDB-4EAC-AED5-10F3DAF89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D0DF-06F7-42D7-9A83-49A0E1B1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8323-3976-4664-BD6F-3D358AA2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55DD-22AC-4321-8111-6A4FEAD6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AADD-A890-410F-AF1D-06E53383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19C9-E9E9-4C1A-B6A9-474BF223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9063-C9F4-466E-8CB3-FA3EAABA0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8DBB-3A41-48FB-8772-CBD5AFFFB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88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4B20-41ED-4781-8A4E-0AD864172C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48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E703-AFD4-4002-9327-062C7570EB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" Target="slide12.xml"/><Relationship Id="rId4" Type="http://schemas.openxmlformats.org/officeDocument/2006/relationships/slide" Target="slide17.xml"/><Relationship Id="rId5" Type="http://schemas.openxmlformats.org/officeDocument/2006/relationships/slide" Target="slide22.xml"/><Relationship Id="rId6" Type="http://schemas.openxmlformats.org/officeDocument/2006/relationships/slide" Target="slide27.xml"/><Relationship Id="rId7" Type="http://schemas.openxmlformats.org/officeDocument/2006/relationships/slide" Target="slide3.xml"/><Relationship Id="rId8" Type="http://schemas.openxmlformats.org/officeDocument/2006/relationships/slide" Target="slide8.xml"/><Relationship Id="rId9" Type="http://schemas.openxmlformats.org/officeDocument/2006/relationships/slide" Target="slide18.xml"/><Relationship Id="rId10" Type="http://schemas.openxmlformats.org/officeDocument/2006/relationships/slide" Target="slide23.xml"/><Relationship Id="rId11" Type="http://schemas.openxmlformats.org/officeDocument/2006/relationships/slide" Target="slide28.xml"/><Relationship Id="rId12" Type="http://schemas.openxmlformats.org/officeDocument/2006/relationships/slide" Target="slide4.xml"/><Relationship Id="rId13" Type="http://schemas.openxmlformats.org/officeDocument/2006/relationships/slide" Target="slide9.xml"/><Relationship Id="rId14" Type="http://schemas.openxmlformats.org/officeDocument/2006/relationships/slide" Target="slide19.xml"/><Relationship Id="rId15" Type="http://schemas.openxmlformats.org/officeDocument/2006/relationships/slide" Target="slide24.xml"/><Relationship Id="rId16" Type="http://schemas.openxmlformats.org/officeDocument/2006/relationships/slide" Target="slide29.xml"/><Relationship Id="rId17" Type="http://schemas.openxmlformats.org/officeDocument/2006/relationships/slide" Target="slide5.xml"/><Relationship Id="rId18" Type="http://schemas.openxmlformats.org/officeDocument/2006/relationships/slide" Target="slide15.xml"/><Relationship Id="rId19" Type="http://schemas.openxmlformats.org/officeDocument/2006/relationships/slide" Target="slide20.xml"/><Relationship Id="rId20" Type="http://schemas.openxmlformats.org/officeDocument/2006/relationships/slide" Target="slide25.xml"/><Relationship Id="rId21" Type="http://schemas.openxmlformats.org/officeDocument/2006/relationships/slide" Target="slide30.xml"/><Relationship Id="rId22" Type="http://schemas.openxmlformats.org/officeDocument/2006/relationships/slide" Target="slide6.xml"/><Relationship Id="rId23" Type="http://schemas.openxmlformats.org/officeDocument/2006/relationships/slide" Target="slide11.xml"/><Relationship Id="rId24" Type="http://schemas.openxmlformats.org/officeDocument/2006/relationships/slide" Target="slide16.xml"/><Relationship Id="rId25" Type="http://schemas.openxmlformats.org/officeDocument/2006/relationships/slide" Target="slide21.xml"/><Relationship Id="rId26" Type="http://schemas.openxmlformats.org/officeDocument/2006/relationships/slide" Target="slide26.xml"/><Relationship Id="rId27" Type="http://schemas.openxmlformats.org/officeDocument/2006/relationships/slide" Target="slide31.xml"/><Relationship Id="rId28" Type="http://schemas.openxmlformats.org/officeDocument/2006/relationships/image" Target="../media/image1.png"/><Relationship Id="rId2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hyperlink" Target="file:///../../Jeff&apos;s%20Algebra%202/Jeopardy/Jeopardy%20Chapter%205%20Review.ppt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Jeopard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84320" y="762120"/>
          <a:ext cx="8777160" cy="5703840"/>
        </p:xfrm>
        <a:graphic>
          <a:graphicData uri="http://schemas.openxmlformats.org/drawingml/2006/table">
            <a:tbl>
              <a:tblPr/>
              <a:tblGrid>
                <a:gridCol w="1447560"/>
                <a:gridCol w="1752840"/>
                <a:gridCol w="1263600"/>
                <a:gridCol w="1066680"/>
                <a:gridCol w="1676520"/>
                <a:gridCol w="1569960"/>
              </a:tblGrid>
              <a:tr h="14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66"/>
                          </a:solidFill>
                          <a:latin typeface="Papyrus"/>
                        </a:rPr>
                        <a:t>Looking for a parabol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66"/>
                          </a:solidFill>
                          <a:latin typeface="Papyrus"/>
                        </a:rPr>
                        <a:t>A Curve that Fi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66"/>
                          </a:solidFill>
                          <a:latin typeface="Papyrus"/>
                        </a:rPr>
                        <a:t>Factor 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66"/>
                          </a:solidFill>
                          <a:latin typeface="Papyrus"/>
                        </a:rPr>
                        <a:t>Square 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66"/>
                          </a:solidFill>
                          <a:latin typeface="Papyrus"/>
                        </a:rPr>
                        <a:t>A formula for the quadra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66"/>
                          </a:solidFill>
                          <a:latin typeface="Papyrus"/>
                        </a:rPr>
                        <a:t>Imagine th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1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2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3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4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5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6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7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8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empus Sans ITC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9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10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11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12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13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empus Sans ITC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14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15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16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17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empus Sans ITC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18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19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20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21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22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23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24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25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26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27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8" name="" descr=""/>
          <p:cNvPicPr/>
          <p:nvPr/>
        </p:nvPicPr>
        <p:blipFill>
          <a:blip r:embed="rId28"/>
          <a:stretch/>
        </p:blipFill>
        <p:spPr>
          <a:xfrm>
            <a:off x="8839080" y="2743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5168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A Curve that Fits 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40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d the quadratic function that fits the set of data points exact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1371600" y="4495680"/>
          <a:ext cx="7086240" cy="1600200"/>
        </p:xfrm>
        <a:graphic>
          <a:graphicData uri="http://schemas.openxmlformats.org/drawingml/2006/table">
            <a:tbl>
              <a:tblPr/>
              <a:tblGrid>
                <a:gridCol w="885600"/>
                <a:gridCol w="885960"/>
                <a:gridCol w="885600"/>
                <a:gridCol w="885960"/>
                <a:gridCol w="885960"/>
                <a:gridCol w="885600"/>
                <a:gridCol w="885600"/>
                <a:gridCol w="885960"/>
              </a:tblGrid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lu"/>
  </p:transition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5168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A Curve that Fits 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50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d the quadratic function that fits the set of data points exact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8610480" y="60948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1219320" y="4419720"/>
          <a:ext cx="7238520" cy="1676160"/>
        </p:xfrm>
        <a:graphic>
          <a:graphicData uri="http://schemas.openxmlformats.org/drawingml/2006/table">
            <a:tbl>
              <a:tblPr/>
              <a:tblGrid>
                <a:gridCol w="1206720"/>
                <a:gridCol w="1206360"/>
                <a:gridCol w="1206000"/>
                <a:gridCol w="1206360"/>
                <a:gridCol w="1206360"/>
                <a:gridCol w="120672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lu"/>
  </p:transition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5168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Factor it </a:t>
            </a: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100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ct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n – 4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5168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Factor it </a:t>
            </a: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200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ct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11x + 2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5168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Factor it </a:t>
            </a: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300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ct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5x - 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5168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Factor it </a:t>
            </a: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400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se the zero product property to find the zeros of the functi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(x) = 2x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– 3x – 2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5168" fill="hold"/>
                                        <p:tgtEl>
                                          <p:spTgt spid="2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Factor it 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50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se the zero product property to find the zeros of the functi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(x) = 4x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+ 4x + 1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5168" fill="hold"/>
                                        <p:tgtEl>
                                          <p:spTgt spid="2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Square it </a:t>
            </a:r>
            <a:r>
              <a:rPr b="0" lang="en-US" sz="36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100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ve each quadratic equation by completing the squa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6x = 2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5168" fill="hold"/>
                                        <p:tgtEl>
                                          <p:spTgt spid="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Square it </a:t>
            </a:r>
            <a:r>
              <a:rPr b="0" lang="en-US" sz="36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200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ve each quadratic equation by completing the squa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10x + 21 =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5168" fill="hold"/>
                                        <p:tgtEl>
                                          <p:spTgt spid="2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Square it </a:t>
            </a:r>
            <a:r>
              <a:rPr b="0" lang="en-US" sz="36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300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lve each quadratic equation by completing the squa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4 = 17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5168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Looking for a parabola </a:t>
            </a:r>
            <a:r>
              <a:rPr b="0" lang="en-US" sz="36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100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w that the function is a quadratic function by writing it in the form f(x) = a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bx + c, Identify a,b and 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(x) = 5(2x – 1)(3x + 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5168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Square it </a:t>
            </a:r>
            <a:r>
              <a:rPr b="0" lang="en-US" sz="36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400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467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the function in vertex form, and identify the coordinates of the vertex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 = 2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16x + 3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5168" fill="hold"/>
                                        <p:tgtEl>
                                          <p:spTgt spid="2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Square it </a:t>
            </a:r>
            <a:r>
              <a:rPr b="0" lang="en-US" sz="36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 500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the function in vertex form, and identify the coordinates of the vertex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 = 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2x – 3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33" dur="indefinite" restart="never" nodeType="tmRoot">
          <p:childTnLst>
            <p:seq>
              <p:cTn id="134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5168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A formula for the quadratic 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10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the quadratic formula to solve the eq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x + 1 = 2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39" dur="indefinite" restart="never" nodeType="tmRoot">
          <p:childTnLst>
            <p:seq>
              <p:cTn id="140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5168" fill="hold"/>
                                        <p:tgtEl>
                                          <p:spTgt spid="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A formula for the quadratic  </a:t>
            </a:r>
            <a:r>
              <a:rPr b="0" lang="en-US" sz="36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200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the quadratic formula to solve the eq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7x = -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45" dur="indefinite" restart="never" nodeType="tmRoot">
          <p:childTnLst>
            <p:seq>
              <p:cTn id="146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5168" fill="hold"/>
                                        <p:tgtEl>
                                          <p:spTgt spid="2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A formula for the quadratic </a:t>
            </a:r>
            <a:r>
              <a:rPr b="0" lang="en-US" sz="36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300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762120" y="182880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the quadratic formula to solve the eq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1x  = 5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3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5168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A formula for the quadratic 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40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the function, find trhe coordinates of the vertex of the graph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(x) =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7x + 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432440" y="4587840"/>
            <a:ext cx="177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tex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30440" y="4267080"/>
            <a:ext cx="246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352680" y="480060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05520" y="4800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709880" y="44845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124080" y="4114800"/>
            <a:ext cx="3200400" cy="15238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029200" y="4343400"/>
            <a:ext cx="1066680" cy="11430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29360" y="45115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57" dur="indefinite" restart="never" nodeType="tmRoot">
          <p:childTnLst>
            <p:seq>
              <p:cTn id="158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5168" fill="hold"/>
                                        <p:tgtEl>
                                          <p:spTgt spid="2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A formula for the quadratic</a:t>
            </a:r>
            <a:r>
              <a:rPr b="0" lang="en-US" sz="36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 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Papyrus"/>
                <a:hlinkClick r:id="rId3"/>
              </a:rPr>
              <a:t>50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the function, find trhe coordinates of the vertex of the graph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(x) =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2x – 3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432440" y="4587840"/>
            <a:ext cx="177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tex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30440" y="4267080"/>
            <a:ext cx="246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352680" y="480060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105520" y="4800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09880" y="44845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4114800"/>
            <a:ext cx="3200400" cy="15238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029200" y="4343400"/>
            <a:ext cx="1066680" cy="11430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329360" y="45115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63" dur="indefinite" restart="never" nodeType="tmRoot">
          <p:childTnLst>
            <p:seq>
              <p:cTn id="164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15168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Papyrus"/>
              </a:rPr>
              <a:t>Imagine that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10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termine the number of real solutions for the equation by using the discrimina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20x = -2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69" dur="indefinite" restart="never" nodeType="tmRoot">
          <p:childTnLst>
            <p:seq>
              <p:cTn id="170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15168" fill="hold"/>
                                        <p:tgtEl>
                                          <p:spTgt spid="3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Papyrus"/>
              </a:rPr>
              <a:t>Imagine that </a:t>
            </a:r>
            <a:r>
              <a:rPr b="1" lang="en-US" sz="3600" spc="-1" strike="noStrike">
                <a:solidFill>
                  <a:srgbClr val="ffcc66"/>
                </a:solidFill>
                <a:latin typeface="Papyrus"/>
              </a:rPr>
              <a:t>200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ve the equation. Write your answers in the form a + b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8x + 20 =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75" dur="indefinite" restart="never" nodeType="tmRoot">
          <p:childTnLst>
            <p:seq>
              <p:cTn id="176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15168" fill="hold"/>
                                        <p:tgtEl>
                                          <p:spTgt spid="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Papyrus"/>
              </a:rPr>
              <a:t>Imagine that </a:t>
            </a:r>
            <a:r>
              <a:rPr b="1" lang="en-US" sz="3600" spc="-1" strike="noStrike">
                <a:solidFill>
                  <a:srgbClr val="ffcc66"/>
                </a:solidFill>
                <a:latin typeface="Papyrus"/>
              </a:rPr>
              <a:t>300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ve the equation. Write your answers in the form a + b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2x – 1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81" dur="indefinite" restart="never" nodeType="tmRoot">
          <p:childTnLst>
            <p:seq>
              <p:cTn id="182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15168" fill="hold"/>
                                        <p:tgtEl>
                                          <p:spTgt spid="3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Looking for a parabola </a:t>
            </a:r>
            <a:r>
              <a:rPr b="0" lang="en-US" sz="36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200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238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ph the function and give the approximate coordinates of the verte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(x) = 5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x – 12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5168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Papyrus"/>
              </a:rPr>
              <a:t>Imagine that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40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orm the indicated oper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 – 2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4 + 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685800" y="320040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87" dur="indefinite" restart="never" nodeType="tmRoot">
          <p:childTnLst>
            <p:seq>
              <p:cTn id="188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15168" fill="hold"/>
                                        <p:tgtEl>
                                          <p:spTgt spid="3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Papyrus"/>
              </a:rPr>
              <a:t>Imagine that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orm the indicated oper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2 + i)(4 – 8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93" dur="indefinite" restart="never" nodeType="tmRoot">
          <p:childTnLst>
            <p:seq>
              <p:cTn id="194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5168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ouble Jeopard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ick a point value up to what you have so far.  You can double it if you answer correct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7162920" y="1143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1" dur="15168" fill="hold"/>
                                        <p:tgtEl>
                                          <p:spTgt spid="3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Looking for a parabola </a:t>
            </a:r>
            <a:r>
              <a:rPr b="0" lang="en-US" sz="36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300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e whether the parabola opens up or down and whether the y-coordinate of the vertex is the maximum or the minimum of the fun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(x) = (x – 3)(x + 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5168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Looking for a parabola </a:t>
            </a:r>
            <a:r>
              <a:rPr b="0" lang="en-US" sz="36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400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ve the equation, giving both exact solutions and approximate solutions to the nearest hundred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6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5168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Looking for a parabola </a:t>
            </a:r>
            <a:r>
              <a:rPr b="0" lang="en-US" sz="36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500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90720" y="1600200"/>
            <a:ext cx="769608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ve the equation, giving both exact solutions and approximate solutions to the nearest hundred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(x + 2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30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5168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A Curve that Fits 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10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 the quadratic function that fits the set of data points exact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-10,185), (-5, 70), (1, -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5168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A Curve that Fits  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20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 the quadratic function that fits the set of data points exact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-2,-7), (1,2), (-1,-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5168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A Curve that Fits 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30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 the quadratic function that fits the set of data points exact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-1,4), (0,4), (4,8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5168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3T15:04:54Z</dcterms:created>
  <dc:creator>User</dc:creator>
  <dc:description/>
  <dc:language>en-US</dc:language>
  <cp:lastModifiedBy>JEFFCO</cp:lastModifiedBy>
  <dcterms:modified xsi:type="dcterms:W3CDTF">2008-11-17T22:17:41Z</dcterms:modified>
  <cp:revision>38</cp:revision>
  <dc:subject/>
  <dc:title>Jeopardy</dc:title>
</cp:coreProperties>
</file>