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D82-0265-445E-A6AB-0ED1A52B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FC0-9707-4CE0-B3F6-0D94DC95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8FD-3959-4445-A8FA-47AF7030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10E-99D1-4886-8D89-ED3F1E70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5358-6322-4A69-8513-E63BD281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DDF8-6D55-4917-9DAE-0180F25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23C2-9980-4021-8CDA-0A0B932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E00C-2527-42DC-90C1-525A5EE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C55-39C1-4045-91AE-7D2D447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38A5-AC21-4B6B-A536-8502569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97B-F9D7-4E38-B93F-0BB3797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43D-DB0B-4F01-B7A5-581162C5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8DA-8609-4E4F-A30B-994C025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B2C-668E-4622-8D29-639D7A1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FDC-EC9C-498D-92D1-E53E273F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D08-10AC-4EC8-A5D0-3DCC3236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D76E-B40C-4242-954C-631CEBBD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E4CEE-FAC7-4484-8453-4A07A1CC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6899-145E-479E-8C9F-2113346F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35A1-B35A-4111-9A98-6396C80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A01B-05CE-4233-B67D-5422C228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D9DF-299B-405A-A6C4-BD3CF21B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3C4-E0EA-4525-BCAD-228B8CCE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4DD9-4725-4255-BBBA-A82ABA0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7E98-A3A5-47B6-98FB-7C150CD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20F5-0BDC-4FF3-BE01-D2B6536C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35CD-277B-4778-BAA3-5071A2E4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2F81-D0FD-49D4-A117-58CE11E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5C1F-5A2A-4339-BAFA-176AC001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85D2-87B3-4E9D-B692-B87B5E77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0AF6-3504-4403-B858-3037FCC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339DA-9578-462A-85A9-04302AFC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FCFC5-4B93-4880-B939-41CC745F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C3F-25C2-428F-8077-04E1C7A1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BC4D-87DE-49CF-9346-152BEA37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63A6-625E-4487-9C1C-6803DAA0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A8DD-0F0F-4A5C-8BEB-512C7BD7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00E0-05DB-44C0-AC98-B55E3F15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EC9EA-E710-4DC8-BA06-53CF1B3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8A22-1C38-43DE-8ED0-FAA1F5D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5DA8-5183-4A97-9DCA-89DF104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707A-743E-4C2F-96EA-082B3474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66B0-8D46-42CA-8251-F2A35AF1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624-69C0-4F55-9FE3-FABF9FD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C85-2249-4CDE-8E81-362763A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D4C-70FB-4D76-A6B8-2442BF4E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6C3-AED9-48AD-8328-76915253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81F-5B35-4AF0-8BAA-3429596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A1B1-8801-4690-B7D7-AD6EDD16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6F63-4A49-40CB-AB4D-887DD8F0C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267E-7960-4FD1-9A6B-1623F341E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3DB-EDC7-45D2-AA39-5715677E8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29.xml"/><Relationship Id="rId17" Type="http://schemas.openxmlformats.org/officeDocument/2006/relationships/slide" Target="slide5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30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" Target="slide31.xml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hyperlink" Target="file:///../../Jeff&apos;s%20Algebra%202/Jeopardy/Jeopardy%20Chapter%205%20Review.ppt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4320" y="762120"/>
          <a:ext cx="8777160" cy="5703840"/>
        </p:xfrm>
        <a:graphic>
          <a:graphicData uri="http://schemas.openxmlformats.org/drawingml/2006/table">
            <a:tbl>
              <a:tblPr/>
              <a:tblGrid>
                <a:gridCol w="1447560"/>
                <a:gridCol w="1752840"/>
                <a:gridCol w="1263600"/>
                <a:gridCol w="1066680"/>
                <a:gridCol w="1676520"/>
                <a:gridCol w="1569960"/>
              </a:tblGrid>
              <a:tr h="14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Looking for a parab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Curve that 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Factor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Square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formula for the quadr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Imagine t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2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8"/>
          <a:stretch/>
        </p:blipFill>
        <p:spPr>
          <a:xfrm>
            <a:off x="8839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168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371600" y="4495680"/>
          <a:ext cx="7086240" cy="1600200"/>
        </p:xfrm>
        <a:graphic>
          <a:graphicData uri="http://schemas.openxmlformats.org/drawingml/2006/table">
            <a:tbl>
              <a:tblPr/>
              <a:tblGrid>
                <a:gridCol w="885600"/>
                <a:gridCol w="885960"/>
                <a:gridCol w="885600"/>
                <a:gridCol w="885960"/>
                <a:gridCol w="885960"/>
                <a:gridCol w="885600"/>
                <a:gridCol w="885600"/>
                <a:gridCol w="8859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168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10480" y="609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219320" y="4419720"/>
          <a:ext cx="7238520" cy="1676160"/>
        </p:xfrm>
        <a:graphic>
          <a:graphicData uri="http://schemas.openxmlformats.org/drawingml/2006/table">
            <a:tbl>
              <a:tblPr/>
              <a:tblGrid>
                <a:gridCol w="1206720"/>
                <a:gridCol w="1206360"/>
                <a:gridCol w="1206000"/>
                <a:gridCol w="1206360"/>
                <a:gridCol w="1206360"/>
                <a:gridCol w="1206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516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n – 4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16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1x +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16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5x -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6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2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3x –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16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4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4x + 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168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6x =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16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10x + 21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5168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= 17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16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 the function is a quadratic function by writing it in the form f(x) = a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bx + c, Identify a,b and 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(2x – 1)(3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16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16x +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16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16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 + 1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16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7x =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516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2120" y="1828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x  = 5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1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7x +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5168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3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516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he number of real solutions for the equation by using the discrimin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0x = -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168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200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8x + 20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16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x –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516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the function and give the approximate coordinates of the vert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x – 12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516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– 2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 +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3200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516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 + i)(4 – 8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16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uble Jeopar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point value up to what you have so far.  You can double it if you answer corre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162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5168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whether the parabola opens up or down and whether the y-coordinate of the vertex is the maximum or the minimum of the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(x – 3)(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168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16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1600200"/>
            <a:ext cx="7696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(x +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168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0,185), (-5, 70), (1, 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16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2,-7), (1,2), (-1,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16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,4), (0,4), (4,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16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5:04:54Z</dcterms:created>
  <dc:creator>User</dc:creator>
  <dc:description/>
  <dc:language>en-US</dc:language>
  <cp:lastModifiedBy>JEFFCO</cp:lastModifiedBy>
  <dcterms:modified xsi:type="dcterms:W3CDTF">2008-11-17T22:17:41Z</dcterms:modified>
  <cp:revision>38</cp:revision>
  <dc:subject/>
  <dc:title>Jeopardy</dc:title>
</cp:coreProperties>
</file>