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applaus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9D57-CA9F-4FB2-9818-EE8855D6B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321B-C868-4D07-A870-0553A8B8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D258-924D-47E8-A7A7-D78CAB036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3D0E-7136-49B0-BCFC-8CCC66FEA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6AB7-9D1B-4094-8485-C6B4806E1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5930-063D-4118-BAE4-781BDEAA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3709-CBE9-446F-8C03-EE444C22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D436-EF23-4D04-BA41-EA24CD49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292E-487F-45F9-B461-92A4012D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73D5-EB77-4096-8F32-E82AA321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C135-2B11-49FC-B5DD-4EA209AE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B07A-DB81-4104-A5C1-E09C4AB8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2986-B347-40DD-8F18-6B6D52E9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863A-B3CF-476B-9509-A852E760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29FE-1255-438D-964D-15EDACC3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7B97-91E1-4C36-BBF1-87A521A55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1CE1-C46A-49D2-807C-16CE28B61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C54DD-D658-43BB-A22B-9EE2834A4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6BCD4-D5B2-40B5-9544-86ADC8A9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8A0B5-F722-4D88-AFAF-A26A8F6C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E91E7-209F-4F52-AFDB-B198CD56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068EC-F4A6-457A-BB24-3A29FB0B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2969-FB64-4A0B-A6FA-41702EE2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E4EB1-190A-48B5-873D-E69F9669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99C08-57BB-4B5D-90E1-08D23E5A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15259-B480-437D-B0A4-54F4ADC6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423EA-40C2-48DF-8BF6-4D15B842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1FE5C-E2BC-4257-8D90-5DA8E95B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2E0DF-2F4F-4EDF-9F5F-3DF49A9F8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C0E7E-1E2F-4034-9FEB-BDA2FB7EB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871B2-2085-4EB9-838A-5CC75D3D9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D28CA-962A-4465-8932-D89BD990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D4168-7138-4FEE-A31B-4ABB19C7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2F04-2AB4-47E3-89BC-F9114CB1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553D0-122C-44E7-AAEA-54A15BD1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D020E-904B-4E6C-A4E2-331660D4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088DE-A4B5-4770-B865-043AFB9A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4B0F1-D84A-419E-BDF3-689865D9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AB6FF-7F4E-497F-97C0-0154886D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A6DED-21E0-4101-9492-87169614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3FEE9-6429-4AC1-A775-5239BB5F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5AB8E-B8A5-43D8-BE69-953ECC7A1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0B4C3-3912-414E-823D-6CF9A067C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9CB5-E7DB-4CE3-B220-45F28F84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2E30-11BA-469C-877B-6550A054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6801-2169-4DEC-912D-E66BCCC2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8D58-677E-444C-B84C-C941B1FB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8B36-A118-4675-9584-3E8717BC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DA8E-2BA6-4309-9905-36FA3391A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E055-A41A-41AB-8FA6-2754CB88B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BDD2-FC10-4486-81B6-2ADFE4F603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9B68-9883-42CB-A61C-A3152B5E97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17.xml"/><Relationship Id="rId5" Type="http://schemas.openxmlformats.org/officeDocument/2006/relationships/slide" Target="slide22.xml"/><Relationship Id="rId6" Type="http://schemas.openxmlformats.org/officeDocument/2006/relationships/slide" Target="slide27.xml"/><Relationship Id="rId7" Type="http://schemas.openxmlformats.org/officeDocument/2006/relationships/slide" Target="slide3.xml"/><Relationship Id="rId8" Type="http://schemas.openxmlformats.org/officeDocument/2006/relationships/slide" Target="slide8.xml"/><Relationship Id="rId9" Type="http://schemas.openxmlformats.org/officeDocument/2006/relationships/slide" Target="slide18.xml"/><Relationship Id="rId10" Type="http://schemas.openxmlformats.org/officeDocument/2006/relationships/slide" Target="slide23.xml"/><Relationship Id="rId11" Type="http://schemas.openxmlformats.org/officeDocument/2006/relationships/slide" Target="slide28.xml"/><Relationship Id="rId12" Type="http://schemas.openxmlformats.org/officeDocument/2006/relationships/slide" Target="slide4.xml"/><Relationship Id="rId13" Type="http://schemas.openxmlformats.org/officeDocument/2006/relationships/slide" Target="slide9.xml"/><Relationship Id="rId14" Type="http://schemas.openxmlformats.org/officeDocument/2006/relationships/slide" Target="slide19.xml"/><Relationship Id="rId15" Type="http://schemas.openxmlformats.org/officeDocument/2006/relationships/slide" Target="slide24.xml"/><Relationship Id="rId16" Type="http://schemas.openxmlformats.org/officeDocument/2006/relationships/slide" Target="slide29.xml"/><Relationship Id="rId17" Type="http://schemas.openxmlformats.org/officeDocument/2006/relationships/slide" Target="slide5.xml"/><Relationship Id="rId18" Type="http://schemas.openxmlformats.org/officeDocument/2006/relationships/slide" Target="slide15.xml"/><Relationship Id="rId19" Type="http://schemas.openxmlformats.org/officeDocument/2006/relationships/slide" Target="slide20.xml"/><Relationship Id="rId20" Type="http://schemas.openxmlformats.org/officeDocument/2006/relationships/slide" Target="slide25.xml"/><Relationship Id="rId21" Type="http://schemas.openxmlformats.org/officeDocument/2006/relationships/slide" Target="slide30.xml"/><Relationship Id="rId22" Type="http://schemas.openxmlformats.org/officeDocument/2006/relationships/slide" Target="slide6.xml"/><Relationship Id="rId23" Type="http://schemas.openxmlformats.org/officeDocument/2006/relationships/slide" Target="slide11.xml"/><Relationship Id="rId24" Type="http://schemas.openxmlformats.org/officeDocument/2006/relationships/slide" Target="slide16.xml"/><Relationship Id="rId25" Type="http://schemas.openxmlformats.org/officeDocument/2006/relationships/slide" Target="slide21.xml"/><Relationship Id="rId26" Type="http://schemas.openxmlformats.org/officeDocument/2006/relationships/slide" Target="slide26.xml"/><Relationship Id="rId27" Type="http://schemas.openxmlformats.org/officeDocument/2006/relationships/slide" Target="slide31.xml"/><Relationship Id="rId28" Type="http://schemas.openxmlformats.org/officeDocument/2006/relationships/image" Target="../media/image1.png"/><Relationship Id="rId2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hyperlink" Target="file:///../../Jeff&apos;s%20Algebra%202/Jeopardy/Jeopardy%20Chapter%205%20Review.ppt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../Jeff&apos;s%20Algebra%202/Jeopardy/Jeopardy%20Chapter%205%20Review.ppt" TargetMode="External"/><Relationship Id="rId2" Type="http://schemas.openxmlformats.org/officeDocument/2006/relationships/hyperlink" Target="file:///../../Jeff&apos;s%20Algebra%202/Jeopardy/Jeopardy%20Chapter%205%20Review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Jeopard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84320" y="762120"/>
          <a:ext cx="8777160" cy="5703840"/>
        </p:xfrm>
        <a:graphic>
          <a:graphicData uri="http://schemas.openxmlformats.org/drawingml/2006/table">
            <a:tbl>
              <a:tblPr/>
              <a:tblGrid>
                <a:gridCol w="1447560"/>
                <a:gridCol w="1752840"/>
                <a:gridCol w="1263600"/>
                <a:gridCol w="1066680"/>
                <a:gridCol w="1676520"/>
                <a:gridCol w="1569960"/>
              </a:tblGrid>
              <a:tr h="14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66"/>
                          </a:solidFill>
                          <a:latin typeface="Papyrus"/>
                        </a:rPr>
                        <a:t>Looking for a parabol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66"/>
                          </a:solidFill>
                          <a:latin typeface="Papyrus"/>
                        </a:rPr>
                        <a:t>A Curve that Fi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66"/>
                          </a:solidFill>
                          <a:latin typeface="Papyrus"/>
                        </a:rPr>
                        <a:t>Factor 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66"/>
                          </a:solidFill>
                          <a:latin typeface="Papyrus"/>
                        </a:rPr>
                        <a:t>Square 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66"/>
                          </a:solidFill>
                          <a:latin typeface="Papyrus"/>
                        </a:rPr>
                        <a:t>A formula for the quadra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66"/>
                          </a:solidFill>
                          <a:latin typeface="Papyrus"/>
                        </a:rPr>
                        <a:t>Imagine th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1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3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4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5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6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7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8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9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10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11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12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13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14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15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16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17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empus Sans ITC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18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19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20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21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22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23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24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25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26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0033"/>
                          </a:solidFill>
                          <a:uFillTx/>
                          <a:latin typeface="Tempus Sans ITC"/>
                          <a:hlinkClick r:id="rId27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8" name="" descr=""/>
          <p:cNvPicPr/>
          <p:nvPr/>
        </p:nvPicPr>
        <p:blipFill>
          <a:blip r:embed="rId28"/>
          <a:stretch/>
        </p:blipFill>
        <p:spPr>
          <a:xfrm>
            <a:off x="8839080" y="2743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5168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A Curve that Fits 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40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 the quadratic function that fits the set of data points exact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1371600" y="4495680"/>
          <a:ext cx="7086240" cy="1600200"/>
        </p:xfrm>
        <a:graphic>
          <a:graphicData uri="http://schemas.openxmlformats.org/drawingml/2006/table">
            <a:tbl>
              <a:tblPr/>
              <a:tblGrid>
                <a:gridCol w="885600"/>
                <a:gridCol w="885960"/>
                <a:gridCol w="885600"/>
                <a:gridCol w="885960"/>
                <a:gridCol w="885960"/>
                <a:gridCol w="885600"/>
                <a:gridCol w="885600"/>
                <a:gridCol w="885960"/>
              </a:tblGrid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lu"/>
  </p:transition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5168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A Curve that Fits 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50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 the quadratic function that fits the set of data points exact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8610480" y="60948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1219320" y="4419720"/>
          <a:ext cx="7238520" cy="1676160"/>
        </p:xfrm>
        <a:graphic>
          <a:graphicData uri="http://schemas.openxmlformats.org/drawingml/2006/table">
            <a:tbl>
              <a:tblPr/>
              <a:tblGrid>
                <a:gridCol w="1206720"/>
                <a:gridCol w="1206360"/>
                <a:gridCol w="1206000"/>
                <a:gridCol w="1206360"/>
                <a:gridCol w="1206360"/>
                <a:gridCol w="120672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lu"/>
  </p:transition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5168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Factor it </a:t>
            </a: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100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c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n – 4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5168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Factor it </a:t>
            </a: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200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c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11x + 2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5168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Factor it </a:t>
            </a: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300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ct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5x - 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5168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Factor it </a:t>
            </a: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400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e the zero product property to find the zeros of the funct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(x) = 2x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– 3x – 2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5168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Factor it 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50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e the zero product property to find the zeros of the funct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(x) = 4x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+ 4x + 1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5168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Square it 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100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ve each quadratic equation by completing the squ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6x = 2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5168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Square it 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200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ve each quadratic equation by completing the squ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10x + 21 =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5168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Square it 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300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ve each quadratic equation by completing the squa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4 = 17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5168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Looking for a parabola 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100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w that the function is a quadratic function by writing it in the form f(x) = a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bx + c, Identify a,b and 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(x) = 5(2x – 1)(3x + 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5168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Square it 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400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467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the function in vertex form, and identify the coordinates of the vertex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 = 2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16x + 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5168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Square it 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 500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the function in vertex form, and identify the coordinates of the vertex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 = 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2x – 3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5168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A formula for the quadratic 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10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the quadratic formula to solve the eq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x + 1 = 2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39" dur="indefinite" restart="never" nodeType="tmRoot">
          <p:childTnLst>
            <p:seq>
              <p:cTn id="140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5168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A formula for the quadratic  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200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the quadratic formula to solve the eq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7x = -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45" dur="indefinite" restart="never" nodeType="tmRoot">
          <p:childTnLst>
            <p:seq>
              <p:cTn id="146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5168" fill="hold"/>
                                        <p:tgtEl>
                                          <p:spTgt spid="2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A formula for the quadratic 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300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762120" y="18288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the quadratic formula to solve the eq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1x  = 5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3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5168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A formula for the quadratic 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40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the function, find trhe coordinates of the vertex of the graph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7x + 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432440" y="4587840"/>
            <a:ext cx="177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tex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30440" y="4267080"/>
            <a:ext cx="246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352680" y="48006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05520" y="4800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709880" y="44845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4114800"/>
            <a:ext cx="3200400" cy="15238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29200" y="4343400"/>
            <a:ext cx="1066680" cy="1143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29360" y="45115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57" dur="indefinite" restart="never" nodeType="tmRoot">
          <p:childTnLst>
            <p:seq>
              <p:cTn id="158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5168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A formula for the quadratic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 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Papyrus"/>
                <a:hlinkClick r:id="rId3"/>
              </a:rPr>
              <a:t>50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the function, find trhe coordinates of the vertex of the graph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(x) = 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2x – 3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432440" y="4587840"/>
            <a:ext cx="177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tex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30440" y="4267080"/>
            <a:ext cx="246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52680" y="48006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105520" y="4800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09880" y="44845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4114800"/>
            <a:ext cx="3200400" cy="15238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029200" y="4343400"/>
            <a:ext cx="1066680" cy="1143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329360" y="45115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63" dur="indefinite" restart="never" nodeType="tmRoot">
          <p:childTnLst>
            <p:seq>
              <p:cTn id="164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5168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Papyrus"/>
              </a:rPr>
              <a:t>Imagine that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10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termine the number of real solutions for the equation by using the discrimina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20x = -2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69" dur="indefinite" restart="never" nodeType="tmRoot">
          <p:childTnLst>
            <p:seq>
              <p:cTn id="170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5168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Papyrus"/>
              </a:rPr>
              <a:t>Imagine that </a:t>
            </a:r>
            <a:r>
              <a:rPr b="1" lang="en-US" sz="3600" spc="-1" strike="noStrike">
                <a:solidFill>
                  <a:srgbClr val="ffcc66"/>
                </a:solidFill>
                <a:latin typeface="Papyrus"/>
              </a:rPr>
              <a:t>200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ve the equation. Write your answers in the form a + b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8x + 20 =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75" dur="indefinite" restart="never" nodeType="tmRoot">
          <p:childTnLst>
            <p:seq>
              <p:cTn id="176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5168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Papyrus"/>
              </a:rPr>
              <a:t>Imagine that </a:t>
            </a:r>
            <a:r>
              <a:rPr b="1" lang="en-US" sz="3600" spc="-1" strike="noStrike">
                <a:solidFill>
                  <a:srgbClr val="ffcc66"/>
                </a:solidFill>
                <a:latin typeface="Papyrus"/>
              </a:rPr>
              <a:t>300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ve the equation. Write your answers in the form a + b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2x – 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81" dur="indefinite" restart="never" nodeType="tmRoot">
          <p:childTnLst>
            <p:seq>
              <p:cTn id="182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5168" fill="hold"/>
                                        <p:tgtEl>
                                          <p:spTgt spid="3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Looking for a parabola 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200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238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ph the function and give the approximate coordinates of the vert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(x) = 5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x – 12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5168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Papyrus"/>
              </a:rPr>
              <a:t>Imagine that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 the indicated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 – 2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4 + 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685800" y="320040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87" dur="indefinite" restart="never" nodeType="tmRoot">
          <p:childTnLst>
            <p:seq>
              <p:cTn id="188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5168" fill="hold"/>
                                        <p:tgtEl>
                                          <p:spTgt spid="3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Papyrus"/>
              </a:rPr>
              <a:t>Imagine that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 the indicated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2 + i)(4 – 8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93" dur="indefinite" restart="never" nodeType="tmRoot">
          <p:childTnLst>
            <p:seq>
              <p:cTn id="194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5168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ouble Jeopard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ick a point value up to what you have so far.  You can double it if you answer correct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7162920" y="1143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1" dur="15168" fill="hold"/>
                                        <p:tgtEl>
                                          <p:spTgt spid="3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Looking for a parabola 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300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e whether the parabola opens up or down and whether the y-coordinate of the vertex is the maximum or the minimum of the fun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(x) = (x – 3)(x + 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5168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Looking for a parabola 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400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ve the equation, giving both exact solutions and approximate solutions to the nearest hundred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6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5168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Looking for a parabola </a:t>
            </a: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500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90720" y="1600200"/>
            <a:ext cx="769608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ve the equation, giving both exact solutions and approximate solutions to the nearest hundred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(x + 2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30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5168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A Curve that Fits 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10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 the quadratic function that fits the set of data points exact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-10,185), (-5, 70), (1, -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5168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A Curve that Fits  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20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 the quadratic function that fits the set of data points exact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-2,-7), (1,2), (-1,-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5168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33"/>
                </a:solidFill>
                <a:uFillTx/>
                <a:latin typeface="Papyrus"/>
                <a:hlinkClick r:id="rId1"/>
              </a:rPr>
              <a:t>A Curve that Fits 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Papyrus"/>
                <a:hlinkClick r:id="rId2"/>
              </a:rPr>
              <a:t>300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 the quadratic function that fits the set of data points exact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-1,4), (0,4), (4,8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86104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5168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3T15:04:54Z</dcterms:created>
  <dc:creator>User</dc:creator>
  <dc:description/>
  <dc:language>en-US</dc:language>
  <cp:lastModifiedBy>JEFFCO</cp:lastModifiedBy>
  <dcterms:modified xsi:type="dcterms:W3CDTF">2008-11-17T22:17:41Z</dcterms:modified>
  <cp:revision>38</cp:revision>
  <dc:subject/>
  <dc:title>Jeopardy</dc:title>
</cp:coreProperties>
</file>